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AE94-A2C9-4600-A60F-48E78404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063-CC2A-4F36-94BE-4767691F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6092-8F6F-4D27-8793-B52FCA25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8A9-8B0C-40B7-A77F-46064C16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46C-A08A-46EB-A7E2-BCB9C179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8D11-2051-4F6F-8E62-66E8B596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9F5-46F2-4A83-A17B-4B82FA1E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D6B-9839-4B80-9AB2-CA005865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394-E33C-4C55-A683-39526555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EC0-16ED-43AD-BCA0-9C142494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3B3-EEC8-4099-9B59-015A7D0F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E86-C433-4294-8877-B6C918D2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6F91-C725-4880-AD04-69F46B72C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182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91120" y="1219320"/>
            <a:ext cx="464796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ل ينظُر الربُّ إلي؟ فيَجْبُرَ قلبي الكسير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ثم يُكَفكِفُ الدموعْ عن وجهِ ذا الخاطي الكبير؟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9912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228600"/>
            <a:ext cx="3886200" cy="10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نعم نعم نعم يُجيبنا الإنج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آياتُهُ هيَ الدلي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ليسَ الطبيبُ للسل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بل للسقيم بل للسقيمِ والعل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3124080" cy="103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ل ينظُرُ الفادي المسيحْ إلى مَن روحُهُ جريح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لْ مَن يُقَوِّم الكسيحْ ويُنعشُ المَيتَ الطريحْ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9912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228600"/>
            <a:ext cx="3886200" cy="10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نعم نعم نعم يُجيبنا الإنج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آياتُهُ هيَ الدلي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ليسَ الطبيبُ للسل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بل للسقيم بل للسقيمِ والعل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85800"/>
            <a:ext cx="4572000" cy="74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ff"/>
                </a:solidFill>
                <a:latin typeface="Times New Roman"/>
                <a:cs typeface="Arabic Transparent"/>
              </a:rPr>
              <a:t>هل يُنِقذُ الربُّ الشعوبْ ويَفتَديها مِن ذُنوب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ff"/>
                </a:solidFill>
                <a:latin typeface="Times New Roman"/>
                <a:cs typeface="Arabic Transparent"/>
              </a:rPr>
              <a:t>هل مِن نَجاةٍ في الصليبْ تَحمي البَعيدَ والقَريب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9912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228600"/>
            <a:ext cx="3886200" cy="10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نعم نعم نعم يُجيبنا الإنج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آياتُهُ هيَ الدلي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ليسَ الطبيبُ للسل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بل للسقيم بل للسقيمِ والعل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716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80880"/>
            <a:ext cx="2971800" cy="70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هلا أتى الروحُ القُدُسْ مُقَدِّساً ذا الجَسَدَ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َع ضَعفهِ وإثمهِ بهِ يحلُّ لِلمدى؟</a:t>
            </a:r>
            <a:r>
              <a:rPr b="0" lang="ar-SA" sz="4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29912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228600"/>
            <a:ext cx="3886200" cy="10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نعم نعم نعم يُجيبنا الإنج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آياتُهُ هيَ الدلي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ليسَ الطبيبُ للسل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بل للسقيم بل للسقيمِ والعل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0:24:23Z</dcterms:created>
  <dc:creator>SUZANNE.MD</dc:creator>
  <dc:description/>
  <dc:language>en-US</dc:language>
  <cp:lastModifiedBy>HANI SAFI</cp:lastModifiedBy>
  <dcterms:modified xsi:type="dcterms:W3CDTF">2003-03-17T14:27:39Z</dcterms:modified>
  <cp:revision>2</cp:revision>
  <dc:subject/>
  <dc:title>PowerPoint Presentation</dc:title>
</cp:coreProperties>
</file>